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05E-832C-477C-BEEB-23FA1ADB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3E2-987B-4945-A9B6-5C84BB8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FB6-3367-43CD-88A1-294B1C0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FC1-38EB-49D0-BA16-FA0CE231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15B-72CD-44AE-8036-C2520C86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379-A3D2-4C78-8C51-AECDB62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E68-4E47-4A85-A233-D224BC3D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16B-E2A4-485D-B0F9-B947148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FFD-77DB-4543-B660-929C8E0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896-F4E5-4133-83B7-EFCD31A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1F6-C785-45E0-8A4D-965840F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82A-07D5-455D-865D-EFE4925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A59-C95A-4E00-A3BA-312F979AC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ffmannHeinrichPortrai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thumb/6/6d/HoffmannHeinrichPortrait.jpg/220px-HoffmannHeinrichPortra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609480"/>
            <a:ext cx="2514600" cy="275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6668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 auf der Ruck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35053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denke, dass Heinrich Hoffman in ________________ geboren ist.  (1600, 1700, 1800, 19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denke, dass er _______________________ und Autor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97180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war sein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8"/>
          <p:cNvCxnSpPr/>
          <p:nvPr/>
        </p:nvCxnSpPr>
        <p:spPr>
          <a:xfrm flipV="1">
            <a:off x="4495680" y="5105520"/>
            <a:ext cx="388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pload.wikimedia.org/wikipedia/commons/thumb/6/6d/HoffmannHeinrichPortrait.jpg/220px-HoffmannHeinrichPortrait.jpg"/>
          <p:cNvPicPr/>
          <p:nvPr/>
        </p:nvPicPr>
        <p:blipFill>
          <a:blip r:embed="rId1"/>
          <a:stretch/>
        </p:blipFill>
        <p:spPr>
          <a:xfrm>
            <a:off x="6400800" y="304920"/>
            <a:ext cx="2095560" cy="229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6320" y="76320"/>
            <a:ext cx="624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. Heinrich Hoffmann war ein Psychologe und Autor.  Er war in 1809 in Frankfurt am Main, Deutschland geboren.  Er hatte drei Kinder.  Er dachte das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ine gute Kinderbüch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a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Sie waren zu nett.  Er schrieb und zeichnete sein eigenes Buch für seinen Sohn, d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r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rei Jahre alt war.  Das war ein Geschenk zum Weihnachten (im Jahr 1845).  Es heisst “Der Struwwelpeter”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s Buch ist kein typisches Kinderbuch.  Es will die Kind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tw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ehr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Wenn du unartig bist,  gibt e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har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tarke, brutale un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anch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ödlic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onsequenzen. Mark Twain fand das Buch interessant und im Jahr 1935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übersetz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 das Buch ins Englisch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192640" y="3317760"/>
            <a:ext cx="3886200" cy="3501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aben, hatte, hat …geha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nken, dachte, hat …ged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eben, gab, hat …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chreiben, schrieb, hat …g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zeichnen, zeichnete, hat …g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übersetzen, übersetzte, hat …überset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 gab –  there was (idi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st – only (used with 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twas –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hren –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arf – harsh or sh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chmal - some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ödliche – dea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übersetzt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427212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 hast du verstanden (understood)? Schreib interessanten Fakten auf Engl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2" descr=""/>
          <p:cNvPicPr/>
          <p:nvPr/>
        </p:nvPicPr>
        <p:blipFill>
          <a:blip r:embed="rId2"/>
          <a:stretch/>
        </p:blipFill>
        <p:spPr>
          <a:xfrm>
            <a:off x="249120" y="3213000"/>
            <a:ext cx="4872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upload.wikimedia.org/wikipedia/commons/thumb/6/6d/HoffmannHeinrichPortrait.jpg/220px-HoffmannHeinrichPortrait.jpg"/>
          <p:cNvPicPr/>
          <p:nvPr/>
        </p:nvPicPr>
        <p:blipFill>
          <a:blip r:embed="rId1"/>
          <a:stretch/>
        </p:blipFill>
        <p:spPr>
          <a:xfrm>
            <a:off x="3429000" y="609480"/>
            <a:ext cx="2514600" cy="2754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06668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 auf der Ruck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" y="35053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abe gedacht, dass Heinrich Hoffman in ________________ geboren ist.  (1600, 1700, 1800, 1900)  Aber jetzt weiss ich, dass er in _______________ gebor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abe gedacht, dass er ___________ war.  Aber jetzt weiss ich, dass er _____________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0:22:09Z</dcterms:created>
  <dc:creator>tmsadmin</dc:creator>
  <dc:description/>
  <dc:language>en-US</dc:language>
  <cp:lastModifiedBy>tmsadmin</cp:lastModifiedBy>
  <dcterms:modified xsi:type="dcterms:W3CDTF">2014-02-18T15:22:26Z</dcterms:modified>
  <cp:revision>25</cp:revision>
  <dc:subject/>
  <dc:title>Slide 1</dc:title>
</cp:coreProperties>
</file>